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jeop.wav" ContentType="audio/x-wav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3BDC-0EB3-465D-8935-F4EEA292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BB07-D11A-41FE-B4CB-37DBCE08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BE50-EE02-4788-A454-F14348EE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25C7-9675-487C-AA36-8B40B84C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09D6-E1AF-4E9C-BBB6-C4634C63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0A8B-BB94-457C-B244-9FE010EE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A92E-13AF-48C9-8948-B1FECEFD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21A3-8E71-43E4-AFFD-792F5E3C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7185-A2D1-4B6B-8EED-7014DEEF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5D24-E672-412C-B529-9A4BB81A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C045-8471-49C4-912C-D1753F4C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794C-F1D9-4A41-84DA-2381B5B6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C682-4C7B-43A1-B14A-26CEEA59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9383-323B-42CB-9D8F-AEE26F62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7040-E2EC-43F8-BED8-D65C630C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8FA8-5E6A-427D-8BFA-8B3CA666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DB91-4BBC-416A-AFD2-633D4B05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3AE5-87B7-476C-B9FE-08854853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0411-5693-48D3-A83F-C3AE1EDE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79C1-7412-413F-B85F-7482B46F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BEA8-2FB6-4B98-8036-D93474B2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2C7C-274E-4083-AFFD-5BB7D383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24A5-B910-4EBA-B778-DF29EA61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BA7F-8887-421B-9F06-54EA9A43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FF05-FCAA-4EB7-AD13-8AA2159F57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CDC6-DEC2-49AF-87F3-0C5554A62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image" Target="../media/image2.jpeg"/><Relationship Id="rId29" Type="http://schemas.openxmlformats.org/officeDocument/2006/relationships/image" Target="../media/image3.jpeg"/><Relationship Id="rId30" Type="http://schemas.openxmlformats.org/officeDocument/2006/relationships/image" Target="../media/image4.jpeg"/><Relationship Id="rId31" Type="http://schemas.openxmlformats.org/officeDocument/2006/relationships/image" Target="../media/image5.jpeg"/><Relationship Id="rId32" Type="http://schemas.openxmlformats.org/officeDocument/2006/relationships/image" Target="../media/image6.jpeg"/><Relationship Id="rId33" Type="http://schemas.openxmlformats.org/officeDocument/2006/relationships/audio" Target="../media/jeop.wav"/><Relationship Id="rId3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89928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92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496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2880" y="175248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8"/>
          <a:stretch/>
        </p:blipFill>
        <p:spPr>
          <a:xfrm>
            <a:off x="838080" y="114300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9"/>
          <a:stretch/>
        </p:blipFill>
        <p:spPr>
          <a:xfrm>
            <a:off x="2362320" y="114300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0"/>
          <a:stretch/>
        </p:blipFill>
        <p:spPr>
          <a:xfrm>
            <a:off x="3886200" y="114300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1"/>
          <a:stretch/>
        </p:blipFill>
        <p:spPr>
          <a:xfrm>
            <a:off x="5410080" y="114300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2"/>
          <a:stretch/>
        </p:blipFill>
        <p:spPr>
          <a:xfrm>
            <a:off x="6934320" y="1143000"/>
            <a:ext cx="1527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893960" y="3168720"/>
            <a:ext cx="558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is this piece significa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19080" y="2362320"/>
            <a:ext cx="737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th Allegorical and Classic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rst use of a nude since classical ti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tticelli could have been killed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gan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891440" y="3168720"/>
            <a:ext cx="19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sacc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893600" y="31687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s it loc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894680" y="3168720"/>
            <a:ext cx="65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ancacci Chapel, Santa Maria d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rmine, Flor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893240" y="3168720"/>
            <a:ext cx="33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890720" y="31687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42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892880" y="31687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890720" y="316872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es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893960" y="3168720"/>
            <a:ext cx="47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significan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891800" y="3168720"/>
            <a:ext cx="670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s a light source and shadow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ckground is vag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cus on anguish of Adam and E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891440" y="3168720"/>
            <a:ext cx="20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nteg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893240" y="3168720"/>
            <a:ext cx="33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890720" y="31687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50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893960" y="3168720"/>
            <a:ext cx="51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artistic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892520" y="3168720"/>
            <a:ext cx="35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rly Renaiss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92880" y="31687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892160" y="3168720"/>
            <a:ext cx="38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mpura on Canv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892880" y="3168720"/>
            <a:ext cx="18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tticell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893960" y="3168720"/>
            <a:ext cx="47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significan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892520" y="3168720"/>
            <a:ext cx="460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s foreshorten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ows tradged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oks like an engrav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892160" y="3168720"/>
            <a:ext cx="33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renzo Ghibert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893240" y="3168720"/>
            <a:ext cx="37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the dat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890720" y="316872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425-145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893960" y="3168720"/>
            <a:ext cx="46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are they loc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892160" y="3168720"/>
            <a:ext cx="35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lorence Baptist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894680" y="3168720"/>
            <a:ext cx="661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tistic Period are they fro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892520" y="3168720"/>
            <a:ext cx="35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rly Renaiss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92880" y="3168720"/>
            <a:ext cx="49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what year was it mad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893240" y="3168720"/>
            <a:ext cx="36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89400" y="1828800"/>
            <a:ext cx="8127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lded Bronze Relie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ther Info: Last set of doors commission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the Florence Baptist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t rid of the earlier quatrefoil patter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enes from the old testa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lief gives dep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891800" y="316872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pha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893240" y="3168720"/>
            <a:ext cx="33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890720" y="31687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50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893240" y="3168720"/>
            <a:ext cx="36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891440" y="3168720"/>
            <a:ext cx="24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il on Pan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893600" y="3168720"/>
            <a:ext cx="587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commissioned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892160" y="3168720"/>
            <a:ext cx="29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incenzo Naz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890720" y="31687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48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893240" y="3168720"/>
            <a:ext cx="38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significa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766080" y="3048120"/>
            <a:ext cx="784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gures are in a pyramid shape (harmony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le scene projects seren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93600" y="3168720"/>
            <a:ext cx="54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style period is it fro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892520" y="3168720"/>
            <a:ext cx="35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rly Renaiss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893600" y="3168720"/>
            <a:ext cx="587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commissioned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893960" y="3168720"/>
            <a:ext cx="588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edici Family in Flor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sylvanuse</cp:lastModifiedBy>
  <dcterms:modified xsi:type="dcterms:W3CDTF">2007-05-07T17:38:20Z</dcterms:modified>
  <cp:revision>17</cp:revision>
  <dc:subject/>
  <dc:title>Jeopardy</dc:title>
</cp:coreProperties>
</file>